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9EE-791A-4727-AD44-E0AD63CA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E12-001A-40D4-9373-AEEEF55C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81C-7F0E-461E-95DA-FF9864CF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964-54D9-4332-8606-299FD8B5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581-8478-45D3-BA88-A44E6E5B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276-3B2B-42EC-A7C6-E7232BD3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219-AB5D-4587-BE8C-CB9ECE5A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520-D0EA-4BC8-9633-81B2C7EA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123-6C48-4ACE-AEBE-F6071516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722-557A-49C5-92F9-5AD30F7D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E9D-E9A4-4371-A8CC-9AEE963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199-2587-49D4-96F9-3DA0B300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CD79-53BB-4127-A04D-D56C5F6B0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geology.com/rocks/igneous-rocks.shtml" TargetMode="External"/><Relationship Id="rId2" Type="http://schemas.openxmlformats.org/officeDocument/2006/relationships/hyperlink" Target="http://geology.com/rocks/sedimentary-rocks.shtml" TargetMode="External"/><Relationship Id="rId3" Type="http://schemas.openxmlformats.org/officeDocument/2006/relationships/hyperlink" Target="http://geology.com/rocks/metamorphic-rocks.s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rity I. Mul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ion of Sedimentary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1397160"/>
          <a:ext cx="7620120" cy="4206600"/>
        </p:xfrm>
        <a:graphic>
          <a:graphicData uri="http://schemas.openxmlformats.org/drawingml/2006/table">
            <a:tbl>
              <a:tblPr/>
              <a:tblGrid>
                <a:gridCol w="2190600"/>
                <a:gridCol w="542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happen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th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cks are broken down by water, air, and living thing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o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cks are transported from one place to an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ck fragments are  dropped when agents of erosion losses ener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ck fragments are squeezed 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olved minerals are deposited in the tiny spaces among the sedi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6" name="TextBox 5"/>
          <p:cNvSpPr/>
          <p:nvPr/>
        </p:nvSpPr>
        <p:spPr>
          <a:xfrm>
            <a:off x="914400" y="5943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* Compaction and cementation are collectively called lith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Sedimentary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5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86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533520" y="1523880"/>
            <a:ext cx="3581280" cy="4320720"/>
            <a:chOff x="533520" y="1523880"/>
            <a:chExt cx="3581280" cy="4320720"/>
          </a:xfrm>
        </p:grpSpPr>
        <p:pic>
          <p:nvPicPr>
            <p:cNvPr id="81" name="Picture 15" descr=""/>
            <p:cNvPicPr/>
            <p:nvPr/>
          </p:nvPicPr>
          <p:blipFill>
            <a:blip r:embed="rId1"/>
            <a:stretch/>
          </p:blipFill>
          <p:spPr>
            <a:xfrm>
              <a:off x="533520" y="1523880"/>
              <a:ext cx="3553920" cy="36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4"/>
            <p:cNvSpPr/>
            <p:nvPr/>
          </p:nvSpPr>
          <p:spPr>
            <a:xfrm>
              <a:off x="533520" y="547632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hale with Foss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8"/>
          <p:cNvGrpSpPr/>
          <p:nvPr/>
        </p:nvGrpSpPr>
        <p:grpSpPr>
          <a:xfrm>
            <a:off x="4648320" y="1600200"/>
            <a:ext cx="3886200" cy="4178880"/>
            <a:chOff x="4648320" y="1600200"/>
            <a:chExt cx="3886200" cy="4178880"/>
          </a:xfrm>
        </p:grpSpPr>
        <p:pic>
          <p:nvPicPr>
            <p:cNvPr id="84" name="Picture 15" descr=""/>
            <p:cNvPicPr/>
            <p:nvPr/>
          </p:nvPicPr>
          <p:blipFill>
            <a:blip r:embed="rId2"/>
            <a:stretch/>
          </p:blipFill>
          <p:spPr>
            <a:xfrm>
              <a:off x="4648320" y="1600200"/>
              <a:ext cx="3886200" cy="36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>
              <a:off x="4800600" y="5410800"/>
              <a:ext cx="35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glom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ion of Metamorphic 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eans “to change form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ccur at elevated temperatures and pres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 for formation are found a few kilometers below the Earth’s surface and extend into the upper mant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t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ea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the energy needed to drive chemical re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duces more compact rocks with greater dens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ydrothermal Solu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hot water-based solutions escaping from the mass of magma which promotes recrystallization by dissolving original minerals and then depositing new 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act Metamorphis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ccurs when magma moves into ro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ccurs near a body of mag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are driven by a rise in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gional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 in large-scale deformation and high-grade metamorph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d pressures and high temperatures occur during mountain build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s the greatest volume of metamorphic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ification of Metamorphic Ro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5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 of Heat and Pres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12952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Rocks are any solid mass of mineral or mineral-like matter occurring naturally as part of our pla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cks are often made of several different min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avid's Documents\Minerals\Image1.jpg"/>
          <p:cNvPicPr/>
          <p:nvPr/>
        </p:nvPicPr>
        <p:blipFill>
          <a:blip r:embed="rId1"/>
          <a:stretch/>
        </p:blipFill>
        <p:spPr>
          <a:xfrm>
            <a:off x="3581280" y="533520"/>
            <a:ext cx="5181840" cy="5410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380880" y="1294920"/>
            <a:ext cx="4038840" cy="5170680"/>
            <a:chOff x="380880" y="1294920"/>
            <a:chExt cx="4038840" cy="5170680"/>
          </a:xfrm>
        </p:grpSpPr>
        <p:pic>
          <p:nvPicPr>
            <p:cNvPr id="102" name="Picture 15" descr=""/>
            <p:cNvPicPr/>
            <p:nvPr/>
          </p:nvPicPr>
          <p:blipFill>
            <a:blip r:embed="rId1"/>
            <a:stretch/>
          </p:blipFill>
          <p:spPr>
            <a:xfrm rot="16200000">
              <a:off x="-214920" y="1891080"/>
              <a:ext cx="517068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4"/>
            <p:cNvSpPr/>
            <p:nvPr/>
          </p:nvSpPr>
          <p:spPr>
            <a:xfrm>
              <a:off x="468360" y="5867280"/>
              <a:ext cx="39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alibri"/>
                </a:rPr>
                <a:t>Non-Foliated Mar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4648320" y="1295280"/>
            <a:ext cx="3743280" cy="4728600"/>
            <a:chOff x="4648320" y="1295280"/>
            <a:chExt cx="3743280" cy="4728600"/>
          </a:xfrm>
        </p:grpSpPr>
        <p:pic>
          <p:nvPicPr>
            <p:cNvPr id="105" name="Picture 15" descr=""/>
            <p:cNvPicPr/>
            <p:nvPr/>
          </p:nvPicPr>
          <p:blipFill>
            <a:blip r:embed="rId2"/>
            <a:stretch/>
          </p:blipFill>
          <p:spPr>
            <a:xfrm>
              <a:off x="4648320" y="1295280"/>
              <a:ext cx="3743280" cy="422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>
              <a:off x="4952880" y="56556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anded Gnei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neous Rock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eology.com/rocks/igneous-rocks.s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eology.com/rocks/sedimentary-rocks.s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morphic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geology.com/rocks/metamorphic-rocks.s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ck is an important natural resou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early humans to make tools such as hammers, spears, knives, and scrap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centuries to make buildings, roads, and monum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types of rocks have helped build ancient and modern civil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ck study has helped scientists to discover the history of life on Ear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gneous roc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s formed by the crystallization of molten magm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edimentary ro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is formed from the weathered products of preexisting rocks that have been transported, deposited, compacted, and cemen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o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is formed by the alteration of pre-existing rock deep within Earth (but still in the solid state) by heat, pressure, and/or chemically active flu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46784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Title 1"/>
          <p:cNvSpPr/>
          <p:nvPr/>
        </p:nvSpPr>
        <p:spPr>
          <a:xfrm rot="16200000">
            <a:off x="-2933280" y="2933640"/>
            <a:ext cx="6858000" cy="9907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Rock Cyc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gneous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ion of Igneous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rusive igneous rock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e formed when magma hardens beneath Earth’s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trusive igneous rock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e formed when lava hard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Igneous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6" descr=""/>
          <p:cNvPicPr/>
          <p:nvPr/>
        </p:nvPicPr>
        <p:blipFill>
          <a:blip r:embed="rId1"/>
          <a:stretch/>
        </p:blipFill>
        <p:spPr>
          <a:xfrm>
            <a:off x="647640" y="106668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4"/>
          <p:cNvGrpSpPr/>
          <p:nvPr/>
        </p:nvGrpSpPr>
        <p:grpSpPr>
          <a:xfrm>
            <a:off x="380880" y="457200"/>
            <a:ext cx="4108680" cy="2547360"/>
            <a:chOff x="380880" y="457200"/>
            <a:chExt cx="4108680" cy="2547360"/>
          </a:xfrm>
        </p:grpSpPr>
        <p:pic>
          <p:nvPicPr>
            <p:cNvPr id="62" name="Picture 18" descr=""/>
            <p:cNvPicPr/>
            <p:nvPr/>
          </p:nvPicPr>
          <p:blipFill>
            <a:blip r:embed="rId1"/>
            <a:stretch/>
          </p:blipFill>
          <p:spPr>
            <a:xfrm>
              <a:off x="380880" y="457200"/>
              <a:ext cx="4108680" cy="20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3"/>
            <p:cNvSpPr/>
            <p:nvPr/>
          </p:nvSpPr>
          <p:spPr>
            <a:xfrm>
              <a:off x="609480" y="2636280"/>
              <a:ext cx="36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arse-Grained Igneous R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"/>
          <p:cNvGrpSpPr/>
          <p:nvPr/>
        </p:nvGrpSpPr>
        <p:grpSpPr>
          <a:xfrm>
            <a:off x="4724280" y="304920"/>
            <a:ext cx="4052880" cy="2894040"/>
            <a:chOff x="4724280" y="304920"/>
            <a:chExt cx="4052880" cy="2894040"/>
          </a:xfrm>
        </p:grpSpPr>
        <p:pic>
          <p:nvPicPr>
            <p:cNvPr id="65" name="Picture 15" descr=""/>
            <p:cNvPicPr/>
            <p:nvPr/>
          </p:nvPicPr>
          <p:blipFill>
            <a:blip r:embed="rId2"/>
            <a:stretch/>
          </p:blipFill>
          <p:spPr>
            <a:xfrm>
              <a:off x="4724280" y="304920"/>
              <a:ext cx="405288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6"/>
            <p:cNvSpPr/>
            <p:nvPr/>
          </p:nvSpPr>
          <p:spPr>
            <a:xfrm>
              <a:off x="4800240" y="2830680"/>
              <a:ext cx="36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ne-Grained Igneous R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2"/>
          <p:cNvGrpSpPr/>
          <p:nvPr/>
        </p:nvGrpSpPr>
        <p:grpSpPr>
          <a:xfrm>
            <a:off x="380880" y="3276720"/>
            <a:ext cx="4143600" cy="3035520"/>
            <a:chOff x="380880" y="3276720"/>
            <a:chExt cx="4143600" cy="3035520"/>
          </a:xfrm>
        </p:grpSpPr>
        <p:sp>
          <p:nvSpPr>
            <p:cNvPr id="68" name="TextBox 10"/>
            <p:cNvSpPr/>
            <p:nvPr/>
          </p:nvSpPr>
          <p:spPr>
            <a:xfrm>
              <a:off x="380880" y="5943960"/>
              <a:ext cx="36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lassy- textured Obsid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2" descr=""/>
            <p:cNvPicPr/>
            <p:nvPr/>
          </p:nvPicPr>
          <p:blipFill>
            <a:blip r:embed="rId3"/>
            <a:stretch/>
          </p:blipFill>
          <p:spPr>
            <a:xfrm>
              <a:off x="456840" y="3276720"/>
              <a:ext cx="4067640" cy="267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5"/>
          <p:cNvGrpSpPr/>
          <p:nvPr/>
        </p:nvGrpSpPr>
        <p:grpSpPr>
          <a:xfrm>
            <a:off x="4829040" y="3352680"/>
            <a:ext cx="3781440" cy="3112200"/>
            <a:chOff x="4829040" y="3352680"/>
            <a:chExt cx="3781440" cy="3112200"/>
          </a:xfrm>
        </p:grpSpPr>
        <p:pic>
          <p:nvPicPr>
            <p:cNvPr id="71" name="Picture 15" descr=""/>
            <p:cNvPicPr/>
            <p:nvPr/>
          </p:nvPicPr>
          <p:blipFill>
            <a:blip r:embed="rId4"/>
            <a:stretch/>
          </p:blipFill>
          <p:spPr>
            <a:xfrm>
              <a:off x="4829040" y="3352680"/>
              <a:ext cx="3781440" cy="25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14"/>
            <p:cNvSpPr/>
            <p:nvPr/>
          </p:nvSpPr>
          <p:spPr>
            <a:xfrm>
              <a:off x="4875840" y="6096600"/>
              <a:ext cx="36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rphyritic Igneous Roc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05:28:56Z</dcterms:created>
  <dc:creator>ASUS P5PE-VM</dc:creator>
  <dc:description/>
  <dc:language>en-US</dc:language>
  <cp:lastModifiedBy>ASUS P5PE-VM</cp:lastModifiedBy>
  <dcterms:modified xsi:type="dcterms:W3CDTF">2010-06-13T10:43:36Z</dcterms:modified>
  <cp:revision>15</cp:revision>
  <dc:subject/>
  <dc:title>Rocks</dc:title>
</cp:coreProperties>
</file>